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4FC-BCB2-4093-ACFD-E79E577B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04E-972F-4339-9212-EC425E5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315-9606-40C1-984E-80D14B2A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84D-1AF2-4217-8FAE-D2527A32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266-DB39-44A2-A0BC-6196977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AB4-E797-4A4A-B430-5941A5A9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644-0CA3-4A24-BF03-31D69BF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A47-9C7D-43A1-8CE4-39ABB74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AD9-7F25-4E1E-B51C-FD198D6D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B11-D869-4FC8-959B-A281EC3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07B-0096-40D8-9A55-B3C556E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547-74C3-4D9B-98E6-E946CC9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CA5-CC76-426B-87EB-EA8F346185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pics.edition.cnn.com/topics/the_taliba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ore young girls face rape in Afghanistan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race Ki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irls as young as seve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specially rapes within the ages of 9, 8, 7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pes targeting girls are on the increase in Afghanista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iolence has been on the increase in Afghanista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fghan government has failed to adequately protect the rights of women despite constitutional guarantee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ith a resurgen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굴림"/>
                <a:hlinkClick r:id="rId1"/>
              </a:rPr>
              <a:t>Taliba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굴림"/>
              </a:rPr>
              <a:t> targeting NATO forces, government security forces and civilians, violence has been on the increase in Afghanista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nd of 2008-n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rticle published, March 6, 2009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fghanista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Options outside the home are limited where the Taliban holds sway in Afghanista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ttp://edition.cnn.com/2009/WORLD/asiapcf/03/06/afghan.women/index.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1:19:14Z</dcterms:created>
  <dc:creator>DESKTOP</dc:creator>
  <dc:description/>
  <dc:language>en-US</dc:language>
  <cp:lastModifiedBy>DESKTOP</cp:lastModifiedBy>
  <dcterms:modified xsi:type="dcterms:W3CDTF">2009-03-10T15:51:18Z</dcterms:modified>
  <cp:revision>3</cp:revision>
  <dc:subject/>
  <dc:title>More young girls face rape in Afghanistan </dc:title>
</cp:coreProperties>
</file>